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7AF-2467-425E-9BAA-49BF0760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7E7-F6EE-42B1-9D01-8C0E2C1D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5EF-B45C-47CE-96E9-37403E31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425-4508-494A-B2D4-8FCE8D8A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646-9656-4952-8749-FF55B16F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30E-2D09-4272-9B81-36697F59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3DC-4DC3-4294-9020-DDF74D86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371-5CB5-43B7-98A3-1FABEC4C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428-6074-4959-A718-33848B06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ABE-31FC-486E-833C-B6602757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7B9-20AD-4E2D-B0B7-51EF2DC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237-2617-44AC-9B24-6C2FBC12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FC32-E58D-44F8-96C0-20732A67D2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60480" y="1255680"/>
            <a:ext cx="936468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ополагающий вопрос: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абсолютная величин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428760" y="4143240"/>
            <a:ext cx="82296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блемный вопрос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уль и расстояние. Что общег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увидеть отражение графи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00040" y="10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Предмет: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500040" y="160344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ические 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определение абсолютной величи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улировать основные и вспомогательные свойства абсолютной величи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формировать умения и навыки решения задач содержащих неизвестную величину под знаком моду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3148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зультаты представления исследовани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Презентация гипотез и доказательств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Буклет – интересные объекты, факты по теме исслед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428760" y="285840"/>
            <a:ext cx="828648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и сроки проведения проек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онно-подготовительный эта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 неделя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остановка проблемы, выдвижение первых гипоте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Формирование групп, составление плана 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Обсуждение возможных источников информации по поставленной проблеме, вопросов защиты авторских пра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Самостоятельное распределение заданий внутри групп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714240" y="214200"/>
            <a:ext cx="82155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и сроки проведения проек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I. Экспериментально-аналитический этап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2, 3 недели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Участие в открытых уроках посвященных моду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Анализ первых результатов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Корректировка плана (выдвижение новых гипотез и путей их проверк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Обсуждение, обобщение результатов исследований (общие вывод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642960" y="285840"/>
            <a:ext cx="807228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и сроки проведения проек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II. 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3, 4 недели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ыбор творческого названия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формление результатов исследования в виде презентации и букл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Защита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Рефлексия деятельности участников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уемая 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ьи из газеты «Математика» издательства «Первое сентябр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йдуков И.И. Абсолютная величина. - М.: Просвещение, 196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10-05-31T05:17:43Z</dcterms:modified>
  <cp:revision>21</cp:revision>
  <dc:subject/>
  <dc:title>Слайд 1</dc:title>
</cp:coreProperties>
</file>